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gif" ContentType="image/gi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7695-02C0-4D43-8F80-420D2E0DE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DD57-1343-44EC-9989-209240EAE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4EAF-EDCA-456D-A41D-93B65175B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688B-3EBC-4055-B501-EC0CD15F4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9A11-3A56-4166-9929-65F61C59C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2723-D3CB-4344-9906-180A5639E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EE9D-9A5D-4936-8859-261FD635C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595C-A541-4DDE-A284-A67AD6F84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A3D0-297F-44D0-9ACA-C42688B9C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D965-8C8F-4CE1-BD78-A3536F35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5531-5BE6-4A82-821B-F4EE0D282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B6D1-ED7F-4B34-AAE1-10D528B4B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8DD8D-3CD1-4439-9EF1-13D224E2EA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gif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ponge%20Bob%20and%20Friends" descr=""/>
          <p:cNvPicPr/>
          <p:nvPr/>
        </p:nvPicPr>
        <p:blipFill>
          <a:blip r:embed="rId1"/>
          <a:stretch/>
        </p:blipFill>
        <p:spPr>
          <a:xfrm>
            <a:off x="0" y="311040"/>
            <a:ext cx="9144000" cy="6235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38080" y="685800"/>
            <a:ext cx="746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28600" y="380880"/>
            <a:ext cx="89154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ponge Bob Physics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onge Bob Wants to Go Ho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vectors on a piece of graph paper you will plot out Sponge Bobs harrowing path to his pineapple under the sea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scaling your graph so that the x-axis is the longer ax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axis must be 3 lines in from the ed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bob" descr=""/>
          <p:cNvPicPr/>
          <p:nvPr/>
        </p:nvPicPr>
        <p:blipFill>
          <a:blip r:embed="rId1"/>
          <a:stretch/>
        </p:blipFill>
        <p:spPr>
          <a:xfrm>
            <a:off x="5486400" y="4513320"/>
            <a:ext cx="22096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dventure Begin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your ruler and protractor, plot Bobs cour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aving from (0,0), Bob goes 2.5cm due north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eting With Patri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ob sees his friend Patrick, and wanting to say hi to his dear friend, he changes cours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ponge Bob turns 60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to the right for another 4.6 c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eting With San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s Bob finishes with Patrick, he spots San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rom his present course, Bob makes a 60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left turn and proceeds another 4.6 c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ndy Talks Too Mu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ponge Bob can’t handle Sandy’s yapp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gain from his present course, Bob makes a 90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right turn (east) for 4.9 c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d a Bad Day Ag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or Sponge Bob walks right into Itchy and Scratchy having a fight and must alter his course once ag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 makes a 5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urn to the right and proceeds another 9.3 cm on your graph, avoiding Itchy and Scratch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uidw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walking the 18.6 meters (9.3 cm on your graph), Sponge Bob meets up with his buddy Squidw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an enlightening discourse, Bob turns left 1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walks 2.9 cm on your graph to get ho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 flipV="1">
            <a:off x="762120" y="44197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762120" y="3276360"/>
            <a:ext cx="14475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209680" y="9144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NEAPPLE%20UNDER%20THE%20SEA" descr=""/>
          <p:cNvPicPr/>
          <p:nvPr/>
        </p:nvPicPr>
        <p:blipFill>
          <a:blip r:embed="rId1"/>
          <a:stretch/>
        </p:blipFill>
        <p:spPr>
          <a:xfrm>
            <a:off x="7659720" y="2133720"/>
            <a:ext cx="1211400" cy="1622160"/>
          </a:xfrm>
          <a:prstGeom prst="rect">
            <a:avLst/>
          </a:prstGeom>
          <a:ln w="0">
            <a:noFill/>
          </a:ln>
        </p:spPr>
      </p:pic>
      <p:pic>
        <p:nvPicPr>
          <p:cNvPr id="63" name="Sponge%20Bob" descr=""/>
          <p:cNvPicPr/>
          <p:nvPr/>
        </p:nvPicPr>
        <p:blipFill>
          <a:blip r:embed="rId2"/>
          <a:stretch/>
        </p:blipFill>
        <p:spPr>
          <a:xfrm>
            <a:off x="457200" y="5638680"/>
            <a:ext cx="712800" cy="9144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209680" y="99072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990720"/>
            <a:ext cx="2514600" cy="380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7086600" y="3733560"/>
            <a:ext cx="9144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atric" descr=""/>
          <p:cNvPicPr/>
          <p:nvPr/>
        </p:nvPicPr>
        <p:blipFill>
          <a:blip r:embed="rId3"/>
          <a:stretch/>
        </p:blipFill>
        <p:spPr>
          <a:xfrm>
            <a:off x="2438280" y="2819520"/>
            <a:ext cx="665280" cy="1218960"/>
          </a:xfrm>
          <a:prstGeom prst="rect">
            <a:avLst/>
          </a:prstGeom>
          <a:ln w="0">
            <a:noFill/>
          </a:ln>
        </p:spPr>
      </p:pic>
      <p:pic>
        <p:nvPicPr>
          <p:cNvPr id="68" name="Sandy" descr=""/>
          <p:cNvPicPr/>
          <p:nvPr/>
        </p:nvPicPr>
        <p:blipFill>
          <a:blip r:embed="rId4"/>
          <a:stretch/>
        </p:blipFill>
        <p:spPr>
          <a:xfrm>
            <a:off x="1295280" y="457200"/>
            <a:ext cx="644760" cy="990720"/>
          </a:xfrm>
          <a:prstGeom prst="rect">
            <a:avLst/>
          </a:prstGeom>
          <a:ln w="0">
            <a:noFill/>
          </a:ln>
        </p:spPr>
      </p:pic>
      <p:pic>
        <p:nvPicPr>
          <p:cNvPr id="69" name="ichy-scratchy" descr=""/>
          <p:cNvPicPr/>
          <p:nvPr/>
        </p:nvPicPr>
        <p:blipFill>
          <a:blip r:embed="rId5"/>
          <a:stretch/>
        </p:blipFill>
        <p:spPr>
          <a:xfrm>
            <a:off x="5029200" y="228600"/>
            <a:ext cx="1600200" cy="1189080"/>
          </a:xfrm>
          <a:prstGeom prst="rect">
            <a:avLst/>
          </a:prstGeom>
          <a:ln w="0">
            <a:noFill/>
          </a:ln>
        </p:spPr>
      </p:pic>
      <p:pic>
        <p:nvPicPr>
          <p:cNvPr id="70" name="Squidword" descr=""/>
          <p:cNvPicPr/>
          <p:nvPr/>
        </p:nvPicPr>
        <p:blipFill>
          <a:blip r:embed="rId6"/>
          <a:stretch/>
        </p:blipFill>
        <p:spPr>
          <a:xfrm>
            <a:off x="6864480" y="5029200"/>
            <a:ext cx="46008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9T18:49:14Z</dcterms:created>
  <dc:creator>James Keelty</dc:creator>
  <dc:description/>
  <dc:language>en-US</dc:language>
  <cp:lastModifiedBy>mfrancesco</cp:lastModifiedBy>
  <dcterms:modified xsi:type="dcterms:W3CDTF">2005-09-14T12:23:56Z</dcterms:modified>
  <cp:revision>5</cp:revision>
  <dc:subject/>
  <dc:title>PowerPoint Presentation</dc:title>
</cp:coreProperties>
</file>